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1.png" ContentType="image/png"/>
  <Override PartName="/ppt/media/image29.jpeg" ContentType="image/jpeg"/>
  <Override PartName="/ppt/media/image9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EB45-E6B3-4BF0-9F47-1336216ED5D9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D4EF-34C0-4890-8C73-EC76784D25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A</a:t>
            </a:r>
            <a:r>
              <a:rPr b="1" lang="sr-Latn-CS" sz="3200" spc="-1" strike="noStrike">
                <a:solidFill>
                  <a:srgbClr val="c00000"/>
                </a:solidFill>
                <a:latin typeface="Verdana"/>
              </a:rPr>
              <a:t>ртеријск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a</a:t>
            </a:r>
            <a:r>
              <a:rPr b="1" lang="fr-FR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sr-Latn-CS" sz="3200" spc="-1" strike="noStrike">
                <a:solidFill>
                  <a:srgbClr val="c00000"/>
                </a:solidFill>
                <a:latin typeface="Verdana"/>
              </a:rPr>
              <a:t>хипертензиј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a</a:t>
            </a:r>
            <a:r>
              <a:rPr b="1" lang="sr-Latn-CS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Проф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Виолета Ирић Ћуп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00000"/>
                </a:solidFill>
                <a:latin typeface="Arial"/>
              </a:rPr>
              <a:t>ИНТЕГРИСАНЕ СТУДИЈЕ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Етиолошка класификација ХТ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rganization Chart 5" descr=""/>
          <p:cNvPicPr/>
          <p:nvPr/>
        </p:nvPicPr>
        <p:blipFill>
          <a:blip r:embed="rId1"/>
          <a:stretch/>
        </p:blipFill>
        <p:spPr>
          <a:xfrm>
            <a:off x="444600" y="2200320"/>
            <a:ext cx="82548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Примарн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секундарн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Srdjan\Desktop\Picture3.png"/>
          <p:cNvPicPr/>
          <p:nvPr/>
        </p:nvPicPr>
        <p:blipFill>
          <a:blip r:embed="rId1"/>
          <a:stretch/>
        </p:blipFill>
        <p:spPr>
          <a:xfrm>
            <a:off x="601560" y="1828800"/>
            <a:ext cx="800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Колико је есенцијална ХТА заиста есенцијалн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СИСТОЛНА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ДИЈАСТОЛНА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Примарна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есенцијална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или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c000"/>
                </a:solidFill>
                <a:latin typeface="Calibri"/>
              </a:rPr>
              <a:t>идиоп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алдостерониза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синдро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мар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ремећај ресорпције Nа)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Ангиотенсиног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г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ремећај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транспорт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Епителијал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амилорид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сензитив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јонс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канал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Nitric-oxide генерациј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рацелулар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сигна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трансдукциј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ерциј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елециј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A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г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кундарна 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Реналн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Ренопаренхимске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cute glomerulonephriti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Chronic nephriti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olycystic disease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iabetic nephropathy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Hydronephrosi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Реноваскуларне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еноза реналних артер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ренални васку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Renin-producing tumors....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а ретенција со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ddle's syndrome, Gordon's syndrome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ндокринолошке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cromegalija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ypothyroidizam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Hyperthyroidizam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Hypercalcemia (hyperparathyroidism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dren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H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t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Cushing's syndrome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и алдостерон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Congenital adrenal hyperplasia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ивени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ocorticoid exces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edu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eochromocytoma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Extraadrenal chromaffin tumor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Carcinoid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Exogenous hormones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Estroge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минерало и гликокортикоиди, симпатикомиметици, тирамином богата храна, инхибитори М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ла 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Ko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арктација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       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Неуролошке болест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ишен интракранијални 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кранијални тумори и хемора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ncephaliti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spiratory acidosis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Quadriplegia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кутни стрес (и хируршка траума)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сихогена хипервенти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ypoglycem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коти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Pancreatitis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Alcoho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 abuzu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постоперативни период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ковима или хемијски индукована 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атикомиметски ам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phenylpropanolamini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строгени и аналози естрог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ални контрацептиви и хормонска супституциона терап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тикостеро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тилксант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ofilin, caffein, teobromin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алуциног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дјеоски пр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)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ост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ephedra-containing substances")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и престанак употребе неких медика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та блокато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фа агонисти, опијати, калцијум антагони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Актуелне класиф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rganization Chart 10" descr=""/>
          <p:cNvPicPr/>
          <p:nvPr/>
        </p:nvPicPr>
        <p:blipFill>
          <a:blip r:embed="rId1"/>
          <a:stretch/>
        </p:blipFill>
        <p:spPr>
          <a:xfrm>
            <a:off x="414360" y="1968480"/>
            <a:ext cx="4054320" cy="2182680"/>
          </a:xfrm>
          <a:prstGeom prst="rect">
            <a:avLst/>
          </a:prstGeom>
          <a:ln w="0">
            <a:noFill/>
          </a:ln>
        </p:spPr>
      </p:pic>
      <p:pic>
        <p:nvPicPr>
          <p:cNvPr id="104" name="Organization Chart 19" descr=""/>
          <p:cNvPicPr/>
          <p:nvPr/>
        </p:nvPicPr>
        <p:blipFill>
          <a:blip r:embed="rId2"/>
          <a:stretch/>
        </p:blipFill>
        <p:spPr>
          <a:xfrm>
            <a:off x="4797360" y="2041560"/>
            <a:ext cx="4054680" cy="2109600"/>
          </a:xfrm>
          <a:prstGeom prst="rect">
            <a:avLst/>
          </a:prstGeom>
          <a:ln w="0">
            <a:noFill/>
          </a:ln>
        </p:spPr>
      </p:pic>
      <p:pic>
        <p:nvPicPr>
          <p:cNvPr id="105" name="Organization Chart 28" descr=""/>
          <p:cNvPicPr/>
          <p:nvPr/>
        </p:nvPicPr>
        <p:blipFill>
          <a:blip r:embed="rId3"/>
          <a:stretch/>
        </p:blipFill>
        <p:spPr>
          <a:xfrm>
            <a:off x="291960" y="4687920"/>
            <a:ext cx="4054680" cy="2182680"/>
          </a:xfrm>
          <a:prstGeom prst="rect">
            <a:avLst/>
          </a:prstGeom>
          <a:ln w="0">
            <a:noFill/>
          </a:ln>
        </p:spPr>
      </p:pic>
      <p:pic>
        <p:nvPicPr>
          <p:cNvPr id="106" name="Organization Chart 51" descr=""/>
          <p:cNvPicPr/>
          <p:nvPr/>
        </p:nvPicPr>
        <p:blipFill>
          <a:blip r:embed="rId4"/>
          <a:stretch/>
        </p:blipFill>
        <p:spPr>
          <a:xfrm>
            <a:off x="4602240" y="4406760"/>
            <a:ext cx="45543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ESC"/>
          <p:cNvPicPr/>
          <p:nvPr/>
        </p:nvPicPr>
        <p:blipFill>
          <a:blip r:embed="rId1"/>
          <a:stretch/>
        </p:blipFill>
        <p:spPr>
          <a:xfrm>
            <a:off x="7716960" y="-6480"/>
            <a:ext cx="1433520" cy="1311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Класификација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ХТА према степену тежине</a:t>
            </a:r>
            <a:br>
              <a:rPr sz="2800"/>
            </a:b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(НЕ УЧИТИ ВРЕДНОСТИ ИЗ ТАБЕЛЕ НАПАМЕТ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ј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олни                    дијастол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м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-норм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 (блага хипертенз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 (умерена хипертенз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 (тешка хипертенз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лована систолна 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0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да систолни или дијастолни притисак припадају различитим категоријама прихвата се т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ихи убица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олест је најчешће дуго асимптоматс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открива се често приликом систематских прегледа, или прве манифестације компликације 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гобе: Потиљачна главобоља, зујање у ушима, гу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сније се јављају тегобе које су манифестација болести насталих као последица компликације 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Артеријски крвни притис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који крв врши на зидове крвних су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ивидуал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 година старости, пола, етничке припа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арактеристичне клиничке манифестације секундарне 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еохромоцито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ли, чести скокови крвног притиска, мучнина, повраћање, црвенило лица...пораст ТА при примени бета-блока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увођењу у анест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ушингов синдро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ушингоидан 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новаскуларна Х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целерирајућа ХТА, или скок креатинина након употребе АЦЕ инхибитора, хематурија, подаци о повреди или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C:\Users\Srdjan\Desktop\Picture2.jpg"/>
          <p:cNvPicPr/>
          <p:nvPr/>
        </p:nvPicPr>
        <p:blipFill>
          <a:blip r:embed="rId1"/>
          <a:stretch/>
        </p:blipFill>
        <p:spPr>
          <a:xfrm>
            <a:off x="27000" y="1265400"/>
            <a:ext cx="9088560" cy="5516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685800" y="838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Ком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 ХТА са развојем комплик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врло дуго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ИМПТОМАТСКА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вртоглавиц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ње вид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рчане тегобе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ина пектор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убрежни поремећаји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урија, полиурија, дизу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слаби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у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8229600" cy="452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ијагноза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авезне дијагностичке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е дијагностичке процедуре за процену компликованости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 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ивање бубреж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Додатне дијагностичке процедуре у 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1600" spc="-1" strike="noStrike">
                <a:solidFill>
                  <a:srgbClr val="000000"/>
                </a:solidFill>
                <a:latin typeface="Arial Cirilica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 Cirilica"/>
              </a:rPr>
              <a:t>Није неопходно додатно тестир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  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Стадијум ХТА 1 и 2 у одсуству клиничких манифест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 Cirilica"/>
              </a:rPr>
              <a:t>2. </a:t>
            </a:r>
            <a:r>
              <a:rPr b="1" lang="sr-RS" sz="1800" spc="-1" strike="noStrike">
                <a:solidFill>
                  <a:srgbClr val="000000"/>
                </a:solidFill>
                <a:latin typeface="Arial Cirilica"/>
              </a:rPr>
              <a:t>Неинвазивни </a:t>
            </a:r>
            <a:r>
              <a:rPr b="1" i="1" lang="sr-Latn-RS" sz="1800" spc="-1" strike="noStrike">
                <a:solidFill>
                  <a:srgbClr val="000000"/>
                </a:solidFill>
                <a:latin typeface="Arial Cirilica"/>
              </a:rPr>
              <a:t>screening </a:t>
            </a:r>
            <a:r>
              <a:rPr b="1" i="1" lang="en-US" sz="1800" spc="-1" strike="noStrike">
                <a:solidFill>
                  <a:srgbClr val="000000"/>
                </a:solidFill>
                <a:latin typeface="Arial Cirilica"/>
              </a:rPr>
              <a:t>test </a:t>
            </a:r>
            <a:r>
              <a:rPr b="1" lang="sr-RS" sz="1800" spc="-1" strike="noStrike">
                <a:solidFill>
                  <a:srgbClr val="000000"/>
                </a:solidFill>
                <a:latin typeface="Arial Cirilica"/>
              </a:rPr>
              <a:t>препору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 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Стадијум ХТА 3</a:t>
            </a: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ХТА код млађих од 20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        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ХТА код пацијената са верификованим васкуларним болес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 Cirilica"/>
              </a:rPr>
              <a:t>3. Инвазивне дијагностич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Акцелерирајућа или малигна ХТА</a:t>
            </a: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Суспектна аномалија абдоминалне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ХТА индукована употребом АЦЕ инхибитора</a:t>
            </a:r>
            <a:r>
              <a:rPr b="0" lang="en-US" sz="1800" spc="-1" strike="noStrike">
                <a:solidFill>
                  <a:srgbClr val="000000"/>
                </a:solidFill>
                <a:latin typeface="Arial Cirilic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 Cirilica"/>
              </a:rPr>
              <a:t>ХТА са случајно детектованом асиметријом  у величини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Некада лабораторијски параметри одређују и препоручену терапијску процед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Основна термин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игна хипертенз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ХТА са развијеним комоликацијама на циљним органима (ФОУ, оштећење бубре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зистентна хипертенз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ХТА код које и поред употребе 4 лека (од којих је бар 1 диуретик) нису постигнуте жељене вред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сеудорезистентна хипертензија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ТА која није одраз резистенције, већ непридржавања мера лечења од стране пацијената (или лек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Терапијски циљ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AHA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8381880" cy="446580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2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 је терапијски циљ у хипертензиј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зање вредности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рвног притиска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их од 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ад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без знакова КВ компликац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ност ле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ијабетичари</a:t>
                      </a: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ност ле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29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Болест бубрежног паренх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ротеинурија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ротеинурија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ност ле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золована систолна хипертензија стар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ност ле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Srdjan\Desktop\Picture1јкхугуи.jpg"/>
          <p:cNvPicPr/>
          <p:nvPr/>
        </p:nvPicPr>
        <p:blipFill>
          <a:blip r:embed="rId1"/>
          <a:stretch/>
        </p:blipFill>
        <p:spPr>
          <a:xfrm>
            <a:off x="0" y="1143000"/>
            <a:ext cx="91566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Регулаторни механиз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рефлекси (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R у каротидама, луку Ао, центри вазомотори, холинергичка и адренергичка влак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СРАА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волу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крвно-судовна ауторегу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ов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теће болести које фаворизују њихову примену (уверљиве индик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уретици - тијазид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и, изолована систолна хипертензија, срчана инсуфицијен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уретици – Хенлеове петљ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брежна инсуфицијенција, срчана инсуфицијен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уретици - алдосте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чана инсуфицијенција после инфаркта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та блок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ина пекторис, после инфаркта миокарда, трудноћа, тахиаритм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гонисти Са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хидропиридин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и, изолована систолна хипертензија, болести периферних артерија, атеросклероза каротида, трудно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гонисти Са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ина пекторис, атеросклероза каротида, суправентрикуларна тахикард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инхиби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чана инсуфицијенција, дисфункција леве коморе, после акутног инфаркта миокарда, недијабетесна нефропатија, дијабетесна нефропатија (тип 1), протеинур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гонисти АТ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бетесна нефропатија (тип 2), дијабетесна микроалбуминурија, протеинурија, хипертрофија ЛК, кашаљ код примене АСЕ инхиби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 блок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игна хиперплазија простате, хиперлип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Индикације за прописивање главних група антихипертензивних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Особености лечења секундарне и посебних ентитета хипертен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охромоци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ован                Фентол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осибенз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индиковани Бетаблока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новаскуларна Х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овани                Ца антагон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индиковани    АЦЕ инхиби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латерална стено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ован                 метилд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фе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ета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индиковани     АЦЕ инхиби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 блока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уре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Особености лечења секундарне хипертензије (ренална Х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 Cirilica"/>
              </a:rPr>
              <a:t>Ренопаренхимска обоље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: АЦИ, АРБ, Ца антагонисти, алфа и бета бло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 Cirilica"/>
              </a:rPr>
              <a:t>Реноваскуларна обоље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: Ца антагон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КОНТРАИНДИКАЦИЈА ЗА АЦЕ ИНХИБИТОРЕ ЈЕ БИЛАТЕРАЛНА СТЕНОЗА РЕНАЛНИХ АР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препоруке з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лечење 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Без убедљивих индикациј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рма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хиперт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дијум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дијум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рапијска интервен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мена животног ст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јазиди код већине, могу се размотрит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, ARB, BB, CC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ли комбин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бинација диуретика 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, ARB, B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КП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КП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Са убедљивим индикација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чана инсуфицијен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ле инфаркта миокар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сок КВ ри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ронична болест бубре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венција можданог уд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јази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ихипертензивни лекови су моћ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ндомизована, двоструко-слепа, плацебом контролисана студија са паралелним групама регулисаних д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олни крвни 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јастолни крвни 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31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Алгоритам лечења хипертензије</a:t>
            </a:r>
            <a:br>
              <a:rPr sz="2800"/>
            </a:b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ESH,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ESC"/>
          <p:cNvPicPr/>
          <p:nvPr/>
        </p:nvPicPr>
        <p:blipFill>
          <a:blip r:embed="rId1"/>
          <a:stretch/>
        </p:blipFill>
        <p:spPr>
          <a:xfrm>
            <a:off x="341280" y="743040"/>
            <a:ext cx="1378080" cy="1195200"/>
          </a:xfrm>
          <a:prstGeom prst="rect">
            <a:avLst/>
          </a:prstGeom>
          <a:ln w="0">
            <a:noFill/>
          </a:ln>
        </p:spPr>
      </p:pic>
      <p:sp>
        <p:nvSpPr>
          <p:cNvPr id="210" name="Title 1"/>
          <p:cNvSpPr/>
          <p:nvPr/>
        </p:nvSpPr>
        <p:spPr>
          <a:xfrm>
            <a:off x="762120" y="2590920"/>
            <a:ext cx="2743200" cy="761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лаго повећан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изак/умерен КВ ри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нвенционални циљ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486400" y="2590920"/>
            <a:ext cx="2819520" cy="761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зражено повећање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исок/веома висок КВ ри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ижи циљни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33520" y="2133720"/>
            <a:ext cx="803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Arial"/>
              </a:rPr>
              <a:t>ESC 2007: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избор између моно терапије и комбиноване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3581280" y="27432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абери измеђ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1295280" y="3657600"/>
            <a:ext cx="18288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Један лек у мал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6324480" y="3657600"/>
            <a:ext cx="18288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бинација два лека у мал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152280" y="4495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тходни лек у пун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2438280" y="4495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ђи на други лек у мал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4648320" y="4572000"/>
            <a:ext cx="2361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тходна комбинација у пун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7467480" y="457200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дај трећи лек у малој до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152280" y="5638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бинација два или три л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2438280" y="56386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на доза монотерап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095880" y="5638680"/>
            <a:ext cx="2362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бинација три лека у ефективним доз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5181480" y="647712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b050"/>
                </a:solidFill>
                <a:latin typeface="Arial"/>
              </a:rPr>
              <a:t>ESC guidelines. J hypertension 2007. 21: 1011- 10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1"/>
          <p:cNvSpPr/>
          <p:nvPr/>
        </p:nvSpPr>
        <p:spPr>
          <a:xfrm>
            <a:off x="2209680" y="3429000"/>
            <a:ext cx="495324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4"/>
          <p:cNvSpPr/>
          <p:nvPr/>
        </p:nvSpPr>
        <p:spPr>
          <a:xfrm flipV="1">
            <a:off x="4493520" y="3125880"/>
            <a:ext cx="3240" cy="3045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8"/>
          <p:cNvSpPr/>
          <p:nvPr/>
        </p:nvSpPr>
        <p:spPr>
          <a:xfrm flipV="1">
            <a:off x="2208240" y="3428640"/>
            <a:ext cx="1440" cy="3049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9"/>
          <p:cNvSpPr/>
          <p:nvPr/>
        </p:nvSpPr>
        <p:spPr>
          <a:xfrm flipV="1">
            <a:off x="7162920" y="3428640"/>
            <a:ext cx="1440" cy="3049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30"/>
          <p:cNvSpPr/>
          <p:nvPr/>
        </p:nvSpPr>
        <p:spPr>
          <a:xfrm flipV="1">
            <a:off x="1065960" y="4191120"/>
            <a:ext cx="1143000" cy="3045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32"/>
          <p:cNvSpPr/>
          <p:nvPr/>
        </p:nvSpPr>
        <p:spPr>
          <a:xfrm flipH="1" flipV="1">
            <a:off x="2209320" y="4191120"/>
            <a:ext cx="1143000" cy="3045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35"/>
          <p:cNvSpPr/>
          <p:nvPr/>
        </p:nvSpPr>
        <p:spPr>
          <a:xfrm flipV="1">
            <a:off x="1066680" y="5105160"/>
            <a:ext cx="2286000" cy="5331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37"/>
          <p:cNvSpPr/>
          <p:nvPr/>
        </p:nvSpPr>
        <p:spPr>
          <a:xfrm flipV="1">
            <a:off x="3350520" y="5106960"/>
            <a:ext cx="3240" cy="53352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40"/>
          <p:cNvSpPr/>
          <p:nvPr/>
        </p:nvSpPr>
        <p:spPr>
          <a:xfrm flipV="1">
            <a:off x="1065960" y="5105160"/>
            <a:ext cx="1800" cy="5331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41"/>
          <p:cNvSpPr/>
          <p:nvPr/>
        </p:nvSpPr>
        <p:spPr>
          <a:xfrm flipH="1" flipV="1">
            <a:off x="1828440" y="5943600"/>
            <a:ext cx="76212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43"/>
          <p:cNvSpPr/>
          <p:nvPr/>
        </p:nvSpPr>
        <p:spPr>
          <a:xfrm flipV="1">
            <a:off x="6172200" y="4191120"/>
            <a:ext cx="1068480" cy="38088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 flipH="1" flipV="1">
            <a:off x="7238880" y="4191120"/>
            <a:ext cx="1067040" cy="38088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45"/>
          <p:cNvSpPr/>
          <p:nvPr/>
        </p:nvSpPr>
        <p:spPr>
          <a:xfrm>
            <a:off x="6172200" y="5105520"/>
            <a:ext cx="1104840" cy="5331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46"/>
          <p:cNvSpPr/>
          <p:nvPr/>
        </p:nvSpPr>
        <p:spPr>
          <a:xfrm flipH="1">
            <a:off x="7277040" y="5105520"/>
            <a:ext cx="1028880" cy="5331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3657600" y="388620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ко циљни КП није постиг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3657600" y="5105520"/>
            <a:ext cx="1828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ко циљни КП није постиг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ESC"/>
          <p:cNvPicPr/>
          <p:nvPr/>
        </p:nvPicPr>
        <p:blipFill>
          <a:blip r:embed="rId2"/>
          <a:stretch/>
        </p:blipFill>
        <p:spPr>
          <a:xfrm>
            <a:off x="7431120" y="768240"/>
            <a:ext cx="1371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Д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148760" y="4876920"/>
            <a:ext cx="1297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росечан б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лекова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34720" y="4200480"/>
            <a:ext cx="13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Постигнут К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Д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Д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ЦКП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85920" y="328608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Циљни К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Циљни артеријски притисак</a:t>
            </a: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ЦКП</a:t>
            </a: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) 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од</a:t>
            </a: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 &lt;92 mmHg 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назначен је у </a:t>
            </a: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MDRD 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студији за пацијенте 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sr-Latn-CS" sz="1300" spc="-1" strike="noStrike">
                <a:solidFill>
                  <a:srgbClr val="c00000"/>
                </a:solidFill>
                <a:latin typeface="Calibri"/>
              </a:rPr>
              <a:t>просечним систолним/дијастолним КП од</a:t>
            </a: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609480" y="1371600"/>
            <a:ext cx="8137800" cy="838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Просечан број антихипертензивних лекова коришћ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за постизање циљних вредности крвног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il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ili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Додати алфа блокатор или спиронолактон или други диуре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Степен 4. резистен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il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il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ili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Степен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Степен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2590920" y="2877840"/>
            <a:ext cx="27432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Млађи (&lt; 55 год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Старији (&gt; 55 год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диуре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Правило А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79600" y="914400"/>
            <a:ext cx="833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Препоруке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комбиновано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лечење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хиперт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609480" y="15249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Национални водич за хипертензију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Основни принцип лечења 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авезно спровођење нефармаколошких и фармаколошких мера ле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бинована терапија је такође препоручена и када притисак премашује за 20/10 mmHg циљне вредности (СЗ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52280" y="1828800"/>
          <a:ext cx="8915400" cy="472428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вен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ент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систолног крвног прит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ра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ајање дијетарног приступа за спречавање хипертензије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ary Approach to Stop Hypertension – DASH)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рана богата влакнима, воћем и поврћем и мањи унос соли и м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теж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тежине за бар 4 килограма или одржавање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ђу 20-29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но од телесне теж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овно вежб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минута динамичног вежбања умереног интензитета 4-7 дана недељно као додатак свакодневним активност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н унос натриј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ње укупног уноса натријума на мање од 2 грама 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коришћења алкох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ње од 2 стандардна пића дневно или мање од 14 недељно за мушкарце и 9 недељно за ж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08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Промена животног стила и утицај на крвн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c00000"/>
                </a:solidFill>
                <a:latin typeface="Arial"/>
              </a:rPr>
              <a:t>(НЕ УЧИТИ НАПАМЕТ ВРЕДНОСТИ ИЗ ТАБЕЛЕ 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Хипертензију треба дефинисати према нивоу крвног притиска изнад којег испитивнање и лечење чине више користи него штете” </a:t>
            </a:r>
            <a:r>
              <a:rPr b="1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Једини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начин да очувате Ваше здравље јесте да једете оно што не желите, пијете оно што не волите и чините оно што Вам није по вољи (Марк Твен)</a:t>
            </a:r>
            <a:br>
              <a:rPr sz="2000"/>
            </a:b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емедикаментни начини лечења 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ентирање ренал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нервација реналних крвних су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мулација барорецеп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Артеријск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хипертензиј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најмасовниј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незаразн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епид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ардиоваскуларне болести: 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5 милиона људи са дислипид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50 милиона људи са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7,7 милиона са метаболичким синдр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8 милиона са дијагностикованим + 8 милиона 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не-дијагностикованим дијабет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особа умре сваких 33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Лоша контрола хипертензије у примарној здравственој зашт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сту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Мушкар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Ж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Проценат дијагностикованих, лечених и контролиса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Дијагностиков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Дијагностиковани + леч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Дијагностиковани + лечени + контролис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Лоша контрола КП и ризик у раним јутарњим часовима</a:t>
            </a:r>
            <a:br>
              <a:rPr sz="28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лоша контрола праћења КП код пацијената са контролисаним клиничким К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амбулаторно праћење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хоспитално праћење 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неконтролис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контролисани (КП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исано праћење КП 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исано праћење КП 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контролисано праћење КП 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контролисано праћење КП 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Најнижи степен контроле крвног притиска у групи са највећим ризиком: дијабетес тип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Контролисан крвни притис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395280" y="0"/>
            <a:ext cx="842472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/3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ацијенат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узимај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нек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св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од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описаних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леков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Виш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од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оловин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ацијенат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с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хроничним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болестим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идржавај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описан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терапије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епорук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омени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начин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живот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оценат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свих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хоспитализациј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с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резулта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некоректно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узимањ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прописаних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Calibri"/>
              </a:rPr>
              <a:t>леков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Calibri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539640" y="1052640"/>
            <a:ext cx="39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/2 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зн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½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с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лечи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½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се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лечи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адекв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Calibri"/>
              </a:rPr>
              <a:t>Правило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Calibri"/>
              </a:rPr>
              <a:t>полов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1332000" y="170028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1332000" y="2924280"/>
            <a:ext cx="6858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332000" y="4365720"/>
            <a:ext cx="6858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Историјски подаци о хиперт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Хипертензија повећава морбидитет и мортал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Лечење хипертензије смањује морбидитет и мортал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шкар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опа инциденце КВБ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особа годишњ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мулативна стопа фаталних и нефаталних ис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це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7391520" y="53341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ктивно лече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рмотен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хипертен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Колико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познајемо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артеријску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хипертензију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четком 21.века, актуелна дефиниција и класификација ХТА, алгоритми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поруке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јагностичке и терапијске процедуре ЕSH, ES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ле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видира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пору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62120" y="213372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Calibri"/>
                <a:ea typeface="Arial"/>
              </a:rPr>
              <a:t>Дугорочно повишене вредности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alibri"/>
                <a:ea typeface="Arial"/>
              </a:rPr>
              <a:t>артеријског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alibri"/>
                <a:ea typeface="Arial"/>
              </a:rPr>
              <a:t>крвног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alibri"/>
                <a:ea typeface="Arial"/>
              </a:rPr>
              <a:t>притиска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alibri"/>
                <a:ea typeface="Arial"/>
              </a:rPr>
              <a:t>изнад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140/90 </a:t>
            </a:r>
            <a:r>
              <a:rPr b="1" lang="sr-Latn-CS" sz="2800" spc="-1" strike="noStrike">
                <a:solidFill>
                  <a:srgbClr val="ffc000"/>
                </a:solidFill>
                <a:latin typeface="Calibri"/>
                <a:ea typeface="Arial"/>
              </a:rPr>
              <a:t>mmHg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утврђе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аускултацијск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етод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особ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стариј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0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оди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З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ЕS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ЕH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АH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Мерење артеријског крвног прит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ускултацијском методом регистровања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Коротковљевих то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4 амбулаторни мониторинг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Које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се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вредност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сматрају нормалним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Group 4" descr=""/>
          <p:cNvPicPr/>
          <p:nvPr/>
        </p:nvPicPr>
        <p:blipFill>
          <a:blip r:embed="rId1"/>
          <a:stretch/>
        </p:blipFill>
        <p:spPr>
          <a:xfrm>
            <a:off x="1639800" y="4091040"/>
            <a:ext cx="5815080" cy="957240"/>
          </a:xfrm>
          <a:prstGeom prst="rect">
            <a:avLst/>
          </a:prstGeom>
          <a:ln w="0">
            <a:noFill/>
          </a:ln>
        </p:spPr>
      </p:pic>
      <p:pic>
        <p:nvPicPr>
          <p:cNvPr id="82" name="Group 7" descr=""/>
          <p:cNvPicPr/>
          <p:nvPr/>
        </p:nvPicPr>
        <p:blipFill>
          <a:blip r:embed="rId2"/>
          <a:stretch/>
        </p:blipFill>
        <p:spPr>
          <a:xfrm>
            <a:off x="1116000" y="5310360"/>
            <a:ext cx="6821640" cy="888840"/>
          </a:xfrm>
          <a:prstGeom prst="rect">
            <a:avLst/>
          </a:prstGeom>
          <a:ln w="0">
            <a:noFill/>
          </a:ln>
        </p:spPr>
      </p:pic>
      <p:pic>
        <p:nvPicPr>
          <p:cNvPr id="83" name="Group 10" descr=""/>
          <p:cNvPicPr/>
          <p:nvPr/>
        </p:nvPicPr>
        <p:blipFill>
          <a:blip r:embed="rId3"/>
          <a:stretch/>
        </p:blipFill>
        <p:spPr>
          <a:xfrm>
            <a:off x="560520" y="2597040"/>
            <a:ext cx="798660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SC"/>
          <p:cNvPicPr/>
          <p:nvPr/>
        </p:nvPicPr>
        <p:blipFill>
          <a:blip r:embed="rId4"/>
          <a:stretch/>
        </p:blipFill>
        <p:spPr>
          <a:xfrm>
            <a:off x="7497720" y="-171360"/>
            <a:ext cx="1890720" cy="17143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3" descr=""/>
          <p:cNvPicPr/>
          <p:nvPr/>
        </p:nvPicPr>
        <p:blipFill>
          <a:blip r:embed="rId5"/>
          <a:stretch/>
        </p:blipFill>
        <p:spPr>
          <a:xfrm>
            <a:off x="304920" y="1219320"/>
            <a:ext cx="8534160" cy="5481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4"/>
          <p:cNvSpPr/>
          <p:nvPr/>
        </p:nvSpPr>
        <p:spPr>
          <a:xfrm>
            <a:off x="457200" y="60948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Arial"/>
              </a:rPr>
              <a:t>Епидемило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ismail - [2010]</cp:lastModifiedBy>
  <dcterms:modified xsi:type="dcterms:W3CDTF">2018-01-21T20:06:43Z</dcterms:modified>
  <cp:revision>163</cp:revision>
  <dc:subject/>
  <dc:title>Slide 1</dc:title>
</cp:coreProperties>
</file>