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6EA3-B0A3-4052-AC8E-34D37E493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9677-2FEB-4FEC-A0D6-DC8B63BA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88EC-4E35-4D15-A850-4D80370F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D7BB-8FA0-4DE4-9C42-469367CA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6BF4-5AE2-43E5-B8E0-1F17FFEF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B473-745E-4359-B0A5-A80C647A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EBE3-7784-42AB-B46B-F172D52B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BD66-C5AE-49E6-B80A-54B8F0D1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86FB-2D39-4385-93C4-8D161174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D85E-9FC3-4EB6-92B5-A19C7CE4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DFB4-4473-4CBB-8B49-9F2937901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96EF-D18A-429D-B996-1231CB84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5502-1FF9-421A-A6CD-C8CD9D1CC5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Cirilica"/>
              </a:rPr>
              <a:t>ХИПЕРТЕНЗИВНА КРИ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072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Verdana"/>
              </a:rPr>
              <a:t>Проф</a:t>
            </a:r>
            <a:r>
              <a:rPr b="1" i="1" lang="fr-FR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i="1" lang="sr-Latn-CS" sz="24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sr-Latn-CS" sz="2400" spc="-1" strike="noStrike">
                <a:solidFill>
                  <a:srgbClr val="000000"/>
                </a:solidFill>
                <a:latin typeface="Verdana"/>
              </a:rPr>
              <a:t>Виолета Ирић Ћуп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00000"/>
                </a:solidFill>
                <a:latin typeface="Arial"/>
              </a:rPr>
              <a:t>ИНТЕГРИСАНЕ СТУДИЈЕ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ФАРМ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Cirilica"/>
              </a:rPr>
              <a:t>Teрапијске процедуре-парентералне или перорал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 Cirilica"/>
              </a:rPr>
              <a:t>Предност парентералне је у лаком и брзом праћењу хипотензивног ефекта, али и у начину примене код животно угрожених пацијената (немогућност пер ос примене, поремећај свес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Cirilica"/>
              </a:rPr>
              <a:t>Терапијске процедуре хитних хипертензивних стања (парентералн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- nitroprus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Cirilica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Arial Cirilica"/>
              </a:rPr>
              <a:t>ХТА енцефалопатија (Лек избора), </a:t>
            </a:r>
            <a:r>
              <a:rPr b="0" lang="sr-C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мождана хеморагија или инфаркт, акутна слабост ЛК, акутна коронарна инсуфицијенција, дисекција анеуризме, катехоламинска криза, повредаглаве, након операције, малигна Х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troglicerin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 Cirilica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 Cirilica"/>
                <a:ea typeface="Times New Roman"/>
              </a:rPr>
              <a:t>акутна слабост ЛК, акутна коронарна инсуфицијенција, постопрератино</a:t>
            </a:r>
            <a:r>
              <a:rPr b="0" lang="sr-CS" sz="2000" spc="-1" strike="noStrike">
                <a:solidFill>
                  <a:srgbClr val="000000"/>
                </a:solidFill>
                <a:latin typeface="Arial Cirilic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Cirilica"/>
              </a:rPr>
              <a:t>Терапијске процедуре хитних хипертензивних стања (парентералн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428920"/>
            <a:ext cx="82296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apid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 Cirilica"/>
              </a:rPr>
              <a:t>     </a:t>
            </a:r>
            <a:r>
              <a:rPr b="1" lang="sr-CS" sz="2000" spc="-1" strike="noStrike">
                <a:solidFill>
                  <a:srgbClr val="000000"/>
                </a:solidFill>
                <a:latin typeface="Arial Cirilica"/>
              </a:rPr>
              <a:t>периферни </a:t>
            </a:r>
            <a:r>
              <a:rPr b="0" lang="sr-CS" sz="2000" spc="-1" strike="noStrike">
                <a:solidFill>
                  <a:srgbClr val="000000"/>
                </a:solidFill>
                <a:latin typeface="Arial Cirilica"/>
              </a:rPr>
              <a:t>блокатор постсинаптичких 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 Cirilica"/>
                <a:ea typeface="Times New Roman"/>
              </a:rPr>
              <a:t>ά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  <a:ea typeface="Times New Roman"/>
              </a:rPr>
              <a:t>1 адренергичких рецептора (снижава периферни васкуларни отпор)</a:t>
            </a:r>
            <a:r>
              <a:rPr b="0" lang="sr-CS" sz="2000" spc="-1" strike="noStrike">
                <a:solidFill>
                  <a:srgbClr val="000000"/>
                </a:solidFill>
                <a:latin typeface="Arial Cirilica"/>
                <a:ea typeface="Times New Roman"/>
              </a:rPr>
              <a:t>, централни симпатиколитички ефекат, испољен за 2 до 5 мин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VI, инсуфицијенција 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dralazin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iazoksi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 Cirilica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Arial Cirilica"/>
              </a:rPr>
              <a:t>еклампсија, простране опекотине, малигна ХТА 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Cirilica"/>
              </a:rPr>
              <a:t>Терапијске процедуре хитних хипертензивних стања (парентералне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2856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ntolamin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техоламинска кр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etal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ХТА енцефалопатија, акутна коронарна инсуфицијенција, опекотине, постоперативно, малигна ХТА (ne у бронхоопструкцији,  AV bloцk, SA blц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840" y="106164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Cirilica"/>
              </a:rPr>
              <a:t>Терапијске процедуре хитних хипертензивних стања </a:t>
            </a:r>
            <a:r>
              <a:rPr b="0" lang="en-US" sz="3600" spc="-1" strike="noStrike">
                <a:solidFill>
                  <a:srgbClr val="ff0000"/>
                </a:solidFill>
                <a:latin typeface="Arial Cirilica"/>
              </a:rPr>
              <a:t>(пероралн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2560" y="2276280"/>
            <a:ext cx="777240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ptopril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, 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lapril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mip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lonid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fedi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3840" y="1052640"/>
            <a:ext cx="89298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Cirilica"/>
              </a:rPr>
              <a:t>Актуелне препоруке за терапијски из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55640" y="1652760"/>
          <a:ext cx="7704000" cy="5109840"/>
        </p:xfrm>
        <a:graphic>
          <a:graphicData uri="http://schemas.openxmlformats.org/drawingml/2006/table">
            <a:tbl>
              <a:tblPr/>
              <a:tblGrid>
                <a:gridCol w="2193840"/>
                <a:gridCol w="2756160"/>
                <a:gridCol w="2754000"/>
              </a:tblGrid>
              <a:tr h="384120">
                <a:tc>
                  <a:txBody>
                    <a:bodyPr tIns="47880" bIns="478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Dijagnoz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880" bIns="478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Lek izbor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880" bIns="478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Kontraindikacij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720">
                <a:tc>
                  <a:txBody>
                    <a:bodyPr tIns="47880" bIns="478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Cerebralna ishemij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880" bIns="478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labetalo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troprusi</a:t>
                      </a: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880" bIns="478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tg/Nifedipin/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720">
                <a:tc>
                  <a:txBody>
                    <a:bodyPr tIns="47880" bIns="478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Cerebralna hemoragij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880" bIns="478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labetalol/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troprusi</a:t>
                      </a: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880" bIns="478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tg/Nifedipin/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720">
                <a:tc>
                  <a:txBody>
                    <a:bodyPr tIns="47880" bIns="478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Hipertenzivna encefalopatij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880" bIns="478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labetalo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troprusi</a:t>
                      </a: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880" bIns="478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tg/Nifedipin/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tIns="47880" bIns="478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AK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880" bIns="478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tgNtroprusi</a:t>
                      </a:r>
                      <a:r>
                        <a:rPr b="0" lang="sr-C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880" bIns="478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dralazin/Nifedipi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120">
                <a:tc>
                  <a:txBody>
                    <a:bodyPr tIns="47880" bIns="478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Akutna insuficijencija levog src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880" bIns="478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Nt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troprusi</a:t>
                      </a: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880" bIns="478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dralazin/Nifedipi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720">
                <a:tc>
                  <a:txBody>
                    <a:bodyPr tIns="47880" bIns="478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Disekcija aort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1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Еклампсиј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880" bIns="478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Ntg/Ntropru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-Hidralazi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880" bIns="478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dralazin/Nifedipi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i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tIns="47880" bIns="478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880" bIns="478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880" bIns="478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840" y="856800"/>
            <a:ext cx="89298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Cirilica"/>
              </a:rPr>
              <a:t>У терапији ХТА кризе, не препоручује 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9280" y="1989000"/>
          <a:ext cx="8275680" cy="4268880"/>
        </p:xfrm>
        <a:graphic>
          <a:graphicData uri="http://schemas.openxmlformats.org/drawingml/2006/table">
            <a:tbl>
              <a:tblPr/>
              <a:tblGrid>
                <a:gridCol w="4426200"/>
                <a:gridCol w="3849480"/>
              </a:tblGrid>
              <a:tr h="93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Не снижавати пребрз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Rebound fenomen„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симпатикус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 (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реактивна тахикардија, аритмија, ХТ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e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лечити сублингвалним нифедипин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"Rebound fenomen„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симпатикуса, повећане потребе миокарда за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02,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мождана хипоперфуз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Не лечити парентералним фуросемидом сваку криз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Дисбаланс електрол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Не лечити употребом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Nt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Пораст интракранијалног притис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Cirilica"/>
              </a:rPr>
              <a:t>Опште мере опреза у лечењу ХТА кри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Одговарајући-лежећи положа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Код старих, почети са нижом доз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Честе контроле 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Cirilica"/>
              </a:rPr>
              <a:t>Карактеристике доброг лека који се користи у терапији хипертензивне криз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Да се притисак не снижава пребрз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Да је титрабилан, и да се хипотензивни учинак може контролис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Да нема контраиндикација код различитих клиничких манифестација хипертензивне кри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Да нема значајних интеракција са другим леков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Да је ефикас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Да су нуспојаве ретке и бла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Cirilica"/>
              </a:rPr>
              <a:t>Хипертензивна кри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и и велики скок вредности крвног притиска у кратком временском интерва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 Narrow"/>
              </a:rPr>
              <a:t>Асимптоматски, или с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а знацима васкуларних оштећења виталних органа (енцефалопатија, бубрежна и срчана слабост</a:t>
            </a:r>
            <a:r>
              <a:rPr b="0" lang="sr-RS" sz="3200" spc="-1" strike="noStrike">
                <a:solidFill>
                  <a:srgbClr val="000000"/>
                </a:solidFill>
                <a:latin typeface="Arial Cirilic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Narrow"/>
              </a:rPr>
              <a:t>Епидеми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1% пацијената са есенцијалном Х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Ретко код нормотензивних (стрес, 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</a:rPr>
              <a:t>опекотин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Cirilica"/>
              </a:rPr>
              <a:t>Kлиничка сл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700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Нагли почетак, прогредијентан 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Cirilica"/>
              </a:rPr>
              <a:t>Асимптоматски, или са знацима васкуларних оштећења виталних органа (енцефалопатија, бубрежна и срчана слабос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Главобоља, узнемиреност, страх, гуш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Енцефалопатија (главобоља, мучнина, повраћањ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Едем плућа, смањење бубрежне функциј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Cirilica"/>
              </a:rPr>
              <a:t>Брзина регулације вредности крвног притиска-степени терапијске хит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 Cirilica"/>
              </a:rPr>
              <a:t>I </a:t>
            </a:r>
            <a:r>
              <a:rPr b="1" lang="sr-RS" sz="3200" spc="-1" strike="noStrike">
                <a:solidFill>
                  <a:srgbClr val="000000"/>
                </a:solidFill>
                <a:latin typeface="Arial Cirilica"/>
              </a:rPr>
              <a:t>степен</a:t>
            </a: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(</a:t>
            </a:r>
            <a:r>
              <a:rPr b="0" lang="sr-RS" sz="2400" spc="-1" strike="noStrike">
                <a:solidFill>
                  <a:srgbClr val="000000"/>
                </a:solidFill>
                <a:latin typeface="Arial Cirilica"/>
              </a:rPr>
              <a:t> Током неколико минута или унутар првог са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Ciril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 Cirilica"/>
              </a:rPr>
              <a:t>Енцефалопатија са конвулзиј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Ciril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 Cirilica"/>
              </a:rPr>
              <a:t>Еклампс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Ciril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 Cirilica"/>
              </a:rPr>
              <a:t>Дисекција А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Ciril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 Cirilica"/>
              </a:rPr>
              <a:t>Катехоламинске кризе 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(</a:t>
            </a:r>
            <a:r>
              <a:rPr b="0" lang="sr-RS" sz="2800" spc="-1" strike="noStrike">
                <a:solidFill>
                  <a:srgbClr val="000000"/>
                </a:solidFill>
                <a:latin typeface="Arial Cirilica"/>
              </a:rPr>
              <a:t>Феохромоцитомска криза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Cirilica"/>
              </a:rPr>
              <a:t>Брзина регулације вредности крвног притиска-степени терапијске хит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en-US" sz="3200" spc="-1" strike="noStrike">
                <a:solidFill>
                  <a:srgbClr val="000000"/>
                </a:solidFill>
                <a:latin typeface="Arial Cirilica"/>
              </a:rPr>
              <a:t>stepen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(</a:t>
            </a:r>
            <a:r>
              <a:rPr b="0" lang="sr-RS" sz="2400" spc="-1" strike="noStrike">
                <a:solidFill>
                  <a:srgbClr val="000000"/>
                </a:solidFill>
                <a:latin typeface="Arial Cirilica"/>
              </a:rPr>
              <a:t>током неколико сат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 Cirilica"/>
              </a:rPr>
              <a:t>Акутно попуштање хиперрензивног срца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(e</a:t>
            </a:r>
            <a:r>
              <a:rPr b="0" lang="sr-RS" sz="2800" spc="-1" strike="noStrike">
                <a:solidFill>
                  <a:srgbClr val="000000"/>
                </a:solidFill>
                <a:latin typeface="Arial Cirilica"/>
              </a:rPr>
              <a:t>дем плућа </a:t>
            </a:r>
            <a:r>
              <a:rPr b="0" lang="sr-Latn-RS" sz="2800" spc="-1" strike="noStrike">
                <a:solidFill>
                  <a:srgbClr val="000000"/>
                </a:solidFill>
                <a:latin typeface="Arial Cirilica"/>
              </a:rPr>
              <a:t>I- II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степен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Ciril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 Cirilica"/>
              </a:rPr>
              <a:t>Прееклампс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Ciril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 Cirilica"/>
              </a:rPr>
              <a:t>Малигна Х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Ciril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 Cirilica"/>
              </a:rPr>
              <a:t>Акцелерирајућа Х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00" y="1125000"/>
            <a:ext cx="84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Cirilica"/>
              </a:rPr>
              <a:t>Брзина регулације вредности крвног притиска-степени терапијске хитн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тепен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RS" sz="2800" spc="-1" strike="noStrike">
                <a:solidFill>
                  <a:srgbClr val="000000"/>
                </a:solidFill>
                <a:latin typeface="Arial Cirilica"/>
              </a:rPr>
              <a:t>Током више сати или неколико данс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Ciril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 Cirilica"/>
              </a:rPr>
              <a:t>СВЕ ОСТАЛЕ Х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Cirilica"/>
              </a:rPr>
              <a:t>Терапија у хипертензивној кризи (вазодилататори или адренергички инхибитор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500200"/>
            <a:ext cx="8229600" cy="43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Cirilica"/>
              </a:rPr>
              <a:t>Зависе искључиво од степена терапијске хитности, а не од вредности притиска 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(нпр. еклампсија са конвулзијама....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Cirilica"/>
              </a:rPr>
              <a:t>Брзина регулације вредности крвног притиска-степени терапијске хитн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14200" y="2287080"/>
            <a:ext cx="8715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Брзина регулације ТА, као и жељене вредности ТА су различ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Акутни едем плућ, дисекција Ао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  <a:ea typeface="Times New Roman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снижење за 15 do 30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Хипертензивна енцефалопатија 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  <a:ea typeface="Times New Roman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снижење за 25% SAP током  2</a:t>
            </a:r>
            <a:r>
              <a:rPr b="0" lang="sr-CS" sz="2000" spc="-1" strike="noStrike">
                <a:solidFill>
                  <a:srgbClr val="000000"/>
                </a:solidFill>
                <a:latin typeface="Arial Cirilic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3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CVI 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  <a:ea typeface="Times New Roman"/>
              </a:rPr>
              <a:t>→снижење до вредности од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170-180/100mmHg током  6- 12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5:51:59Z</dcterms:created>
  <dc:creator>Registered User</dc:creator>
  <dc:description/>
  <dc:language>en-US</dc:language>
  <cp:lastModifiedBy>ismail - [2010]</cp:lastModifiedBy>
  <dcterms:modified xsi:type="dcterms:W3CDTF">2018-01-21T20:08:26Z</dcterms:modified>
  <cp:revision>62</cp:revision>
  <dc:subject/>
  <dc:title>Hipertenzivna kriza-hitno ili urgentno stan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